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B22-EE04-47E9-A1A4-ADED48BC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2C0-3EF1-4F6C-93A9-E5FB3E6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FDE-AA31-4BFC-A50D-8CA6EC5E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395-C154-42C6-91E1-57693C21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C61-D98B-41F9-B2AC-C83E6FB9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DFA-A790-4BC0-85F4-E506CC4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8B7-94EC-455C-8B67-5CAA2D01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E714-9657-4334-8E1B-0FC4227C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A760-2AB8-4263-8875-F2C113D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DF4-2E67-4F62-BF6D-64B2B92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F767-AB2A-466E-8026-55A3F33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39E-FF52-4539-9DE0-ADA6F1E8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0FE4-5B30-443F-86D0-7481E9E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ABCE-4216-44C2-9841-710E3CF2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D00-E5FA-42DB-9F9C-638CA08F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7FDB-16AB-46E4-8D95-1DA7D431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0242-7782-4A2C-8E8F-714AFE34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2099-B9B8-485E-BA2D-C5566AFB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4562-5019-4579-B1B3-9DFF17CC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71BC-5DA6-4877-BD7F-B1EDC302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4A36-F545-4795-B0E5-20CA8F3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C3CA-C96C-4571-9203-DD60393B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D0E-E2B9-4728-9218-BD2C2157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3672-1950-4BA5-A4C8-8F81A902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5914-E7AB-456B-B606-0FE8FFB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A624-DEFA-4543-AC8B-08894FB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A9E3-67DB-4A5C-84DC-5E02550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4C5F-CA5C-4B75-B48D-99CEE3D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D541-B5F4-4605-B2F4-B0872956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F89B-C30E-49C1-9CDA-1B2A24AC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76CA-2EEC-41E1-A50B-C409F1F2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8676-8D26-40E6-A16A-D4E10B1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BB59-7048-4FC5-A3FC-6C1E5A64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256-5EFC-4A25-9577-95C82AA3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1729-04CE-482D-8E2E-E187025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3900-E0C7-4EDB-A564-D0578C9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050F-02D8-4AB2-A65A-6E437622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A53A-D937-4B92-81BE-DA375F5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2CB3-D5F8-4A1E-BB6F-73180D0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B7DE-EF96-499E-AB9D-981F8FF6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E1130-8FC3-419D-A8CA-27BE2CDF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0C26-9FB2-4CD7-B681-135375E5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EF48-C546-420F-851C-BE9A2211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761B-13CB-454E-93AE-12C561F2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B41-3978-4620-8760-0FFC7597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5B96B-9DFD-4CC3-BCC1-BF0B793E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B9D7-22DD-4CE9-AF26-143D4463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71D5-62A0-46EB-93E9-76084C9D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A97A-97B4-477A-8CA1-556370CC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1C00-8833-412A-A56F-FEE0F20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06FC-63F9-445B-B592-703A5C2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8944-1B80-406C-903F-4B10203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3AEB-28A9-4DC5-8013-4754D9C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8CE0-7A5D-48BC-AE93-BC6331E4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C686-200F-4C00-B4C0-5772273E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BA8-6C73-47DD-B4FE-666E90C4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BE0B-916F-4941-B717-6D6C93D6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71E7B-28EF-43B0-AAD4-75787E0D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FC104-E267-4130-B7FA-A31665C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86973-5226-45F3-9FA9-404CC750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EFB4-DCD1-41E5-A250-9DA98FDC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7B28A-7DF1-4AEE-9E3C-1622663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18B5-F3E5-42C7-96DA-B9827186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899F-85EF-4A31-B055-CC96C5A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445C-1064-43F7-8067-406FBF6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7E31-9492-4BAF-8AB3-81EC56D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A4E-88B1-4C02-974F-8539CFF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3551-5DB7-4EC7-B021-2A5ED5AB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4FBD8-68EF-4579-91C2-AE75C0EE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B133-19DC-4EAF-889F-55F5DDF1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C881-4B37-4FD4-94CA-CDDACFE6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3F71-8E8A-4DEC-94F2-A6FEAA57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28862-62A4-477A-9BCE-4FB9C77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2FF6-E082-483E-93BF-6169952B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63B64-0709-4FBA-B1A4-FC27EF40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5BFC-86D8-48A4-94CB-EB7ADF04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35C40-B98A-4BE7-B0BE-94553A1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EB0-38ED-42EC-A848-5322DF7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D73C7-995D-4ED4-85B5-C4490CE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CDD9-0008-46FE-86A0-8ECDC90E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9659-8CDC-4B1C-93B9-7896C166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880E-A5AB-4736-B51E-FEA4BFD4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B06CD-CCAF-40D6-9CC3-D2F8CAF2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9EBC-CF4F-40F9-8265-497AA632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E144-0313-41DC-BDBC-B327912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84A3-734C-446C-B52B-718D622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EEBD1-F0FE-4333-A603-756A533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67B6-B2C5-4C3F-B2A1-C5E754A7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BDF-8EA6-41BB-9EDE-AF369B62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73A5-775F-4444-B5C2-A5B2D0D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B401D-DA6E-4C4F-B929-2CBAEC3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1749-5A0F-4221-A773-DCD03BC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604C6-F602-47D3-8C2D-ABDECF4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81B56-3D00-42AC-A935-3BF8736D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64B1B-AC47-45DA-83D9-B40E9A02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60ED-1F23-4A1F-A14B-DD837201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272-22C5-40A9-AB7E-8DF608A0141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252-3F91-4200-B348-7E0A83590837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6662-2553-44A5-ADD6-62B285AF30E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552-3087-4738-8462-29CA3DBF1E26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D270-B390-47D7-A17A-B84B05ABE5E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6F1-5EC8-407C-8DB4-90E1A717D80B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8C1-33BE-4D55-801F-6B52986D110B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16A7-D7E2-4FD1-8A44-7F7FBB8DB1F0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Users\PARTICULAR\Desktop\o-estudo-diario-segredo-bom-desempenho-escolar-1317739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64646"/>
                </a:solidFill>
                <a:latin typeface="Lucida Sans Unicode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Retângulo 4"/>
          <p:cNvSpPr/>
          <p:nvPr/>
        </p:nvSpPr>
        <p:spPr>
          <a:xfrm>
            <a:off x="1042920" y="549360"/>
            <a:ext cx="748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E.E JOSÉ ALVES QU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SÍNTESE DO TEMA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APRENDER É ESTU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E.E.JAQ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PROGETEC: GEOVANI VIL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APRENDER É ESTUD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APRENDER NÃO É UMA XEROX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MAS SIM....SUJEITO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PERCEPÇÃO DE SEU REDOR....(MENTE HUMANA)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NEM SEMPRE ESTUDA É TER AU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Espaço Reservado para Conteúdo 3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UMA HISTÓRIA CONTADA POR MAIS DE UMA PESSOA , AO FINALIZARMOS ESSA HISTÓRIA TEREMOS FINAIS  DIFEREN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CRESCENTE  DA  AUTONOMIA HUM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PRENDIZAGEM ADEQU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UTORIA – ARGUMENT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ESQUISA- FUNDAMENT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ABORAÇÃO PRÓPRIA – HÁBI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LEITURA SISTEMÁTICA - PROFISS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ítulo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Espaço Reservado para Conteúdo 3" descr="20120721-ciclo_aprendizage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18:56:53Z</dcterms:created>
  <dc:creator>PARTICULAR</dc:creator>
  <dc:description/>
  <dc:language>en-US</dc:language>
  <cp:lastModifiedBy>PARTICULAR</cp:lastModifiedBy>
  <dcterms:modified xsi:type="dcterms:W3CDTF">2015-03-26T20:17:39Z</dcterms:modified>
  <cp:revision>6</cp:revision>
  <dc:subject/>
  <dc:title>Slide 1</dc:title>
</cp:coreProperties>
</file>